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28DF-ACC5-46DC-898C-B12CD7A7B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C025-9077-4AF8-A8B9-7B8ECA637EE1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A96B-57A3-4B88-982D-B5F2714571E0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DA7D-C1CC-4321-8645-6F881A01EF02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5C8-D272-4C76-8FA1-592C7256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4BFD-1B47-4145-A9B1-31049472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7D48-0556-4B36-8136-5E5A05ED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3FB-08B5-4C08-9311-667AFE75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DF75-AB34-455C-95AB-69C06237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18FE-9692-4533-A586-546D7F25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5FD8-D256-41EA-98C2-851488E8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2137-6489-4F4D-B4B0-F1E8F5C5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AE9B-89F3-4A27-BB55-8FB2860A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D1A3-AFF4-49B4-834E-EBB7E3D0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E07A-4C24-4750-8719-938ACC0E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A5EF-A770-4A8F-8E41-33EB07F1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B931-98FB-4A6D-98A6-CB9A4691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FE3E-EDF6-4E17-BFFF-22572B11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7573-4DF8-4ED8-9BAA-6CC7AA70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8F40-824D-4BF7-A1F2-E495FCD5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E065-0543-4B0A-B2E7-D58A9CAD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7567A-9ED4-4098-8A37-2CB3865E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0C8A5-BABA-4AEF-BD90-CC171AB4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1925E-013B-4BE6-A337-7D639E69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D9AEA-E864-4821-8DE0-60A40B7F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3EF41-2859-43D2-B447-BD4A885E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563-EF14-43C5-98DB-6612C299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6C0EA-595A-45BF-8A4C-23F4F2CF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A71A2-048D-4BE6-BBB4-A96EBB64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0C153-ACCA-45CC-BEBF-75C20C92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9150B-6203-460A-B8CD-EAA70629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667CE-4E43-4B4E-B6DC-295A8843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B6988-B782-49F2-921A-F280F510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E9DFC-97C7-496E-9EC2-0C018BDD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3F057-22D4-4200-A28F-AE3B4F52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6B16B-B329-4143-8A41-702AAB3A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5BA6E-7EBB-48CA-A298-E89B2C41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A14-AEAA-41FE-8EA4-A72D2F26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CCF84-5D22-498E-A2D8-2B5BD518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E721A-53E6-4351-A121-451F6A0C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43D24-0514-4756-87B6-875E01D3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267AB-8CA1-4A99-8CED-F4E9BE70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21160-8AC6-42EA-B9C9-D7D74D1C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65BDA-98D2-4A8C-91F1-DA8E4805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88ACE-CE07-4AF8-89BE-81F21B80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FB584-561F-4D3B-B5EC-E998297C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86101-532D-4961-AE4A-4912C4B9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44510-D994-4580-B706-210B16DB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B89-D60D-46BE-930B-82D119E2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32D00-6BEA-41F5-B47A-A74C2B7D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7E290-6E88-41F4-89EE-B772A949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7F632-4B7D-413A-A6CA-CC1DBE01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C60B8-129B-49DE-8ED8-14D03386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C35CE-0398-4F76-BA9C-AFB457A1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0EEB8-2E72-4CBC-AD4A-24986834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09845-29F2-473F-A0B3-B28E9D93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3A18D-3E65-4B5F-9356-09A78287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B0D6D-0D15-4208-849E-A882134E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50F09-D4E2-467B-815B-8D4F8262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6FB-2AB6-4561-97CA-77CFC39D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D12E8-3755-42E5-8D2F-176809BC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59789-6039-4A33-BCA1-A129147F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EC4BD-D8B3-4191-B62B-A43FB000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9BAD7-3729-4F11-A6F6-AD2A8E3B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FFAD8-D767-4D12-9164-3A85F5AA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A55DB-1207-42BA-85A6-8D2BB775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CB2F6-0E4D-4088-8447-07C5C1E7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CDA36-A72C-4C87-9318-58B31ABD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C72AE-ED9B-459F-AD78-8D1A793D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9C51C-83FF-4381-AA73-375514CD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BF2D-7F79-4DDD-9AAC-2E626403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5475B-7D69-43F2-8BD4-891AA3EB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986B9-EC46-4401-A49F-2288BE71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CF6A8-9668-4ABD-8DE8-F80852F2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9806E-B464-470D-8F98-847B3960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FF72D-EB0C-456E-A5ED-24B83387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512B4-8B17-4348-84C2-DB3A6611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82F6C-C06D-49B1-8079-26EE4DF8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40C12-B84B-4F9D-BB99-E42A9804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18C03-0AF9-44FF-B74E-394EECD7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21B1D-F600-4C56-B042-5CC6FBA5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CE1A-F8F5-4F6E-9A93-85F6F11D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E4B33-076C-4F28-B21C-4836C435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C5794-4564-4411-B8A1-53F8E399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FFB5F-6FC3-4508-9EE6-402C16E6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2D6E1-C6A3-4D1D-A092-E713A17D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D0357-22BE-403B-9F2B-C6346029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D6071-0A92-4322-B69D-6E10E09A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52F6D-A44E-4285-92FB-2CF83A09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129C9-822A-4C30-BDD5-6B0CD26E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A76AE-AC0C-4BDA-B658-93260C48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DAE72-2845-497C-8FE1-D89DEF8B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D5A-8C83-4063-BBF9-8AB7E0B9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9BED4-4DA9-4836-9668-C0A7560D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CE2C7-E988-4C1B-9169-62F132E1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5BC82-A591-44A1-AB38-A838EBB2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115B0-EB1C-47C3-9294-6ADC4AD4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44EAA-F42D-45B7-AE7C-CE9100F5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00036-55EC-418F-8A91-2CA67E2F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FA8FA-0E38-499C-83A1-AC822404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5CA4-1779-4EBD-9D13-9851D0EC2D57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DED1-F329-4C94-9CF9-F32AD84CD36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hthoe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hthoe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hthoe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B642-F8A3-4AB1-82BE-FF5F71852DFA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DB72-04C4-48AD-898B-5B3DE6EFB53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hthoe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9B30-C3C1-430C-9ECE-C01346570015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F272-5699-4D9A-9D3A-0D00401DC33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Gelijkbenige driehoe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D10E-7AC9-4116-ABF6-37F14EA5A0AE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5CDE-887E-491B-9E0E-7BC507B4879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9974-C81A-4E96-ACCF-41166A1B1579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DD27-9D7E-4D25-B3AA-CEE82D2BC3E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Rechte verbindingslijn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Gelijkbenige driehoek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1325-8E13-492A-AC66-F22DFFC53ABA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5833-0BA6-4507-873C-CEEFE0296E3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hthoek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977D-7016-4688-BCBE-6113A79EDC42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2495-94B7-4ADE-8884-BF9D1DC07EC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Rechte verbindingslijn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E599-D810-4A27-B5C9-E5CE26169860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7467-1DD1-4A4E-AEA7-041F4A93EF4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84400" y="386064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Towards a decision making support too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64653"/>
                </a:solidFill>
                <a:latin typeface="Bookman Old Style"/>
              </a:rPr>
              <a:t>that suits your need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5" descr="D:\Ilri\various\NBDC_LogoBigSize_PV.jpg"/>
          <p:cNvPicPr/>
          <p:nvPr/>
        </p:nvPicPr>
        <p:blipFill>
          <a:blip r:embed="rId1"/>
          <a:stretch/>
        </p:blipFill>
        <p:spPr>
          <a:xfrm>
            <a:off x="838080" y="260280"/>
            <a:ext cx="75502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Criteria for a tool (in small groups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300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hat hampers today the promotion of site-specific intervention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hat type of information should this tool give you? To the extension service? to the ngo? To the community and farmer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hat is the best format for a tool?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paper based, computer based? Other options?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If computer based : which programs are availables?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For which of the program is training needed?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64" name="Tijdelijke aanduiding voor dianumm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CBD1-55B3-4CD2-BE09-7B19652D97C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7380360" y="6157800"/>
            <a:ext cx="176364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Our first idea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39640" y="12207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4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2746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Tijdelijke aanduiding voor dianumm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494E-6EFA-4619-835F-5590332ED4B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" name="Picture 5" descr=""/>
          <p:cNvPicPr/>
          <p:nvPr/>
        </p:nvPicPr>
        <p:blipFill>
          <a:blip r:embed="rId1"/>
          <a:stretch/>
        </p:blipFill>
        <p:spPr>
          <a:xfrm>
            <a:off x="7380360" y="6157800"/>
            <a:ext cx="1763640" cy="7002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97758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Our major question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s there are a need for map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f yes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Should they be interactive?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o what extend shall they include short term changing data (=need to adjust regularly)?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 we look at individual farmers only, or do we include communal management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s there a need for an impact map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Tijdelijke aanduiding voor dianumm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131F-F842-4079-AC85-0B8B1406DE6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Picture 5" descr=""/>
          <p:cNvPicPr/>
          <p:nvPr/>
        </p:nvPicPr>
        <p:blipFill>
          <a:blip r:embed="rId1"/>
          <a:stretch/>
        </p:blipFill>
        <p:spPr>
          <a:xfrm>
            <a:off x="7380360" y="6157800"/>
            <a:ext cx="176364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7:35:18Z</dcterms:created>
  <dc:creator>Catherine -user</dc:creator>
  <dc:description/>
  <dc:language>en-US</dc:language>
  <cp:lastModifiedBy>Catherine -user</cp:lastModifiedBy>
  <dcterms:modified xsi:type="dcterms:W3CDTF">2011-03-28T21:05:06Z</dcterms:modified>
  <cp:revision>21</cp:revision>
  <dc:subject/>
  <dc:title>PowerPoint-presentatie</dc:title>
</cp:coreProperties>
</file>